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377-7208-42FA-9CF6-0629DDC9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A7F-8E56-456D-8A64-259D4E87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A4719-B350-48C6-8E1C-20807993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07803-0D65-4864-9527-134E03DA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9A284-378C-416E-BDB4-F75726A6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5BEB4-139B-43C9-9349-6EF91C1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E448D-14D2-483D-987C-467FBB9F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0F4C5-C42B-47EC-8665-072FCA18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6448B-285D-48AB-860D-D3E56208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FFF18-B2C5-414B-9EA5-D7BAE484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01EE7-799D-4857-8A15-7F3999D9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1F637-8E31-4143-BCDB-18DD4813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3F7-D456-49AE-9741-C2E879D2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FB3BF-78FC-45DE-9FB3-6019E84E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12C3C-E7B4-4056-9459-C030D31F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46809-3FD9-47EC-8E9F-F4E07D69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A8BB8-C856-457E-BF89-7B39ED07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B1FC7-A802-4A46-904B-5EFD6DC4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3232F-2C26-40FA-A4F4-75E46B30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61052-1DCF-48C5-AEF5-754AE9A1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9EB44-47D7-4D4F-9F5E-5732ECEC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EBBE5-A893-44A8-BE82-CD21471C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61B36-6051-4F8F-BCB5-45A0D056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315-E0D7-451B-A77C-E532C78D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131CE-DF44-4E1D-89C7-923B06CC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33C51-78BF-46B8-83D1-36D16EE4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E16DD-6011-4F6F-8CFA-3E71D25B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ABB44-CC85-4306-81FD-B11828EE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34619-69FD-4972-87FE-E89BC74C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45216-1EFB-48D5-9997-3C34317B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3220E-BA34-4283-807C-764F091C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20CA9-60BE-4BE0-B582-BF3C69F5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DD32B-059C-4568-8B45-7262C8FE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A9888-2589-4B2E-ACEE-1E6E3EB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E0B7-3A42-48DE-B7D7-801630CD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2DB0F-84FA-4235-BD3F-D3F5224E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122B8-922B-4D76-A3F6-5057A9C9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90B82-DF06-4424-A542-134E0995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BE60C-D3CE-4DB2-90B4-5F52FF12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4697C-FAF8-46DD-8450-31F57865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4A862-84C1-4E3E-AE44-41B6AF25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D1B0B-CC31-4FF4-9F96-D258D82D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CCE04-33BF-4412-B20C-B23EC0C5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4960B-B73A-4DBB-9ECC-D2D43A97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CA3B8-8A1D-4EDE-AE53-B0C06872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B6EF-240D-4BAF-86AD-D6454102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58332-14C2-4C0E-B4F5-DC414A0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74914-0FB5-4A4F-8ED9-937F673D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EDB32-6AAC-4C59-A831-A5E50EA1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1E432-D2F7-4DEE-B08F-4FABE745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E353A-B013-477B-8F6E-85B5E3D6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FCE00-E434-4CBF-BB2B-B86D775C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3EBAD-91EC-4624-A0CA-26017FB4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2C56B-76E3-45CA-8392-FF73E758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30C14-872F-46EA-9716-95FAAD31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44DAB-682B-4F7E-9886-60578BC7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46E5-8CA9-419D-B8C0-ADEB4BF9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F9ED3-4420-4CB5-9F23-D3AD2635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24AD4-DA3F-42AA-BE05-C80E9C37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BBC22-61F4-491D-887E-883C11D6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D957C-D275-4B38-9426-8E6CFBE5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6C8B7-68AB-438E-937D-1E375897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67DC8-10BD-4282-B52E-F850F314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4D116-04A0-4ED8-BA73-B67D1DB5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1E361-88CE-46B1-B077-4758DA86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C86BA-D187-4ABE-812F-598A81CA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E9D0F-BF3C-4397-9414-830A655D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13C6-E316-4359-A992-6C327507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A59A3-52C5-45EF-9BD9-6E99DDE9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272F1-2C9D-4E1F-AF3C-76891DF2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8696C-93F6-4814-895A-877C0763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FB3AC-1228-42E8-B12F-6008D047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FB5C0-EE08-491F-AF7D-6EC1F85E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1A3A3-7476-47AA-995D-1AFD8A95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E1FDF-67C8-44F4-98A0-54FBC93F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0D71B-40C4-4C78-A674-C49A4C09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47F27-E8B3-47AD-B84B-E04DF6F9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A50A2-0CE0-4146-B114-2021CA0A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925F-223C-4758-AA52-78BCBD92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EA082-423C-4962-9CE9-FAC4019A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3C7C7-0574-4F01-AE01-27AACE37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A1225-F5EE-463F-B3DE-45C55D42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E1B04-6670-4C80-B304-EE2552B4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EC542-0692-4B42-A52C-6184BA55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1912D-C0F7-43B6-89C7-8962962E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86532-92D6-46FF-90F8-874207A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BE0A8-A0CC-4CBD-9ADB-8F837AED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2F3D5-6E7F-463E-9E37-9832D0AF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9F6F3-4737-4951-87F2-D9A33927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E0D2-2938-4888-9477-B0F4A9CE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28963-190B-4529-B65C-10C16E00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6B253-E0D7-4FD5-BEBC-13570AB5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575D6C-9CBE-4A74-A7DA-87BC5E05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2C46C-D06C-47CA-947A-0F1931D5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07168-EB0F-43AA-9012-323D5552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36EA5-8293-41C4-99A2-4013909B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85EAD-06A6-41F6-9597-A2B91F83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025D2-0E50-4B31-963F-F95C6D18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4E750-DEBC-4C3A-A03C-FC5492E0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778AA3-B861-4FAB-9FA2-C852F763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84C1-108B-497A-B699-8C6EC583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2C285-ECF5-428D-BFB1-32F7FE85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E908C-A920-4C5B-981D-D9BBE202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098A9-E3C3-4D90-9E02-66EEB588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271C9-0BE4-4C52-9978-54150AFE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4B4EF-2486-43FD-86DD-8C77C952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FCA73-6053-4D91-8A36-26C94205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26C43F-5137-42BB-A431-AED45985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AF995-FC60-4A3F-B642-003B98C9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03B70-7938-441A-8AA9-737AF72C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2839C-E5D7-407A-BFFF-4F7B7EE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2B0-6D00-4187-8548-CC94C7EB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3D57-ED4D-40E2-B4B0-7AB87062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91D9F-79AF-4988-9CDE-67E8345B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B5BB7-52F6-4D08-AEA1-A2AA28D0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8D40C-1A33-4544-874D-2673E1E6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A7C65-8375-4155-921E-C40AC720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59EEC5-E9AE-4C94-BCA6-54992A81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F1A04-80F7-4A83-8BEF-3FC8357C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044D2F-01E0-4C46-9C51-71EFB293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E7ADB-33EB-4A53-A934-98B03521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56925-3BE9-4D0A-B086-562E70BB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62F77-9024-4E09-90D2-DE1A1B70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5C65-039F-4CF9-A7B1-E48894A0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3EF92-1136-47D0-9440-8AAC3912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1B3F7-950F-43BC-90E2-AD37408D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05FDF-0D9C-492C-96EE-51226470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A4010-5BC4-4388-8BB3-AFC21227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25C27-910B-4085-9118-136EE6D1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FED0C-E565-4E48-87E0-8C9CFCE4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F90AB-E11F-4661-8B65-8E0D9B3D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E4F88-6E07-404E-9584-8DC4F92D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15AB8F-6BC1-4E7C-A751-890A1D35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6CBDF-48E4-45BC-BEFD-BBC7B568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4A0C-8F3D-4DAB-B46F-F7BBCE94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9C16D-DA36-4005-AB46-4B3985C7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89263E-EC5D-4359-9877-6664A8FE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B291A2-4C9F-4798-8F68-E38EEA15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0D02F8-3171-4834-BEE9-66A00A40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9264F-6B39-4C4A-A283-AF5A659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E6482-B4CD-4C9F-B60B-AE5CB02B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3C7FE-D156-46AE-9DF3-ED249689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3913A-B4EC-4466-A635-046CEE93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13AA9-AE4D-471F-8656-BC500617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7A02AB-59F8-435F-8C02-C418F31A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203F-CC91-4B03-919E-F2C8570E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D4BE1-E5EC-482C-A9E4-BB8C4547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E05F8-2BDA-4369-927E-5E5EAFE8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8D0790-A688-4AA0-AFD8-F867CE48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B7677-B079-4F97-8D77-1A9D8042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D0CF8-D3ED-4CE0-9DE2-73E24BEC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6A485A-DD18-4DAC-9EC8-D23AC2DA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54B2DA-A9F6-430E-948C-71748AE6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6FCFC3-D90B-4D0E-988D-563FAF2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39426-483D-488D-BE7F-58710599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2FE8F7-6582-4414-8752-FF506439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3B1C-3AA0-4D91-B8DF-D8A0ACD3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3C639-41E1-4957-90AC-67E2E20E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39D40-5498-4B73-B6AF-8A65F8C5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192DF6-A6D8-4546-B83C-D99910B7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0198E-F297-4241-A889-9FD99DE8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3F3937-11AD-44A5-8A96-7E8A101F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A3F1E-CAD3-4470-897E-58026972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30187-3304-4866-B4BE-91082655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463EF-129B-4998-BFE5-38E434CB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1148FE-1FC3-47D5-9951-5BB4D1A2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127BF3-CF78-46C4-8F84-E6D4A774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81EF4-14D8-4DDA-B850-EF7DC1C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85A76-B5C7-471E-A33D-EA9CCA37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E4E273-91CD-4B1F-99ED-061B8470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B42-95CC-43D4-94AC-76943890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E1D44-2487-40C9-94AC-A8C0F02F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6B70-F032-4263-9752-DEF2A3B8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AEE7-7AF3-49AA-B837-6B42C04C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C74-6212-44FF-AE61-B79DA029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4F57-43B2-49CC-A029-06CCF66F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9C9C-3A63-4A7D-9E7A-7D6E6E86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DE7B-677E-4FE6-AD3C-67C8FF74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3E917-2BFD-4D5E-B467-2ACBB3A8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939D-D6BD-449E-962B-C501C726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381A-63FE-43F9-9FD4-69C61EF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F1C9-94DA-46D4-8FFD-3147CC93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7D73-BEF9-4DA8-A6FA-598D9BE4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DB4C-1661-42B4-80F3-6C2A925B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CA4E-C356-4ACD-B1F5-0FDDC0ED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D29-9005-4DDF-8FB5-04E3FE37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2F59D-4918-48D8-B994-FD8EF6FD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144A-577B-487E-9BCC-3F56EB32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94657-97B6-4C5B-80D0-B78AE63F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EAC6-ADFD-47A9-BF3D-F1A48B9D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2E05-C0B6-4C2F-A522-1E304EAA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22E62-BE34-49DC-B744-40338771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9618-09A2-4F62-A0AD-4213E7DC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80294-99C6-48CE-9F88-DCEEF219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C13E7-15BD-40A0-B7F0-EAA537AC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9E3D-59D8-4523-995E-60FE6D79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564-B72E-4380-AF68-D1734382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5F9BB-FD95-4EF0-90C1-4E5AD1C7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703DE-1BB7-4F82-AA61-CD0B605E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E6707-1AD5-469E-A87B-D3055562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77CEB-4B29-42FE-9250-8DD72FF2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78FC7-FED5-4E7C-ABA0-521FE965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D93EE-B906-4834-B309-17B69D17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7959E-9BA3-461B-ABED-FAF47438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E87F-B1A1-46BA-BA96-0BA375D8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7AFF2-659A-435E-8A5D-69A4F2A8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9BB59-2D10-491E-8CEB-18794D3D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269-6AC2-4ECC-A380-A0B902C7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90B8D-6286-4200-8412-28898E99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14F4C-6E5D-4D82-92FA-A7DF3FE5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AD8B4-3C89-4FDB-A839-64F8C874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4720-9EE9-45C4-8E85-7D2EDE51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EE0FE-362B-45F6-8A4B-8AE81BA0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97CED-F389-4B96-B653-FD10A667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8F8B5-683C-4F92-B106-15261AD2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83C17-2247-43DC-A89B-74AFD24F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76C5C-215F-46F7-BB5E-A5DF3619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08964-64D4-438A-ACDB-D8F97388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5CB-3FCC-43EF-8004-EB114AEB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A0955-8A17-4FEB-80AD-F91DAEA8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8060A-F8C0-40E6-8763-091DA9E8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44BCB-D9BF-4652-9CCE-71E80B07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3EB50-1C07-4908-BB01-005031F6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446D4-5FE5-495A-93C4-5638C444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36819-5C01-4DA7-8A2C-C3E1B478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81E89-D51B-453E-B301-EA58C891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E5900-6A39-4F10-B044-086B64DB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3C580-2073-48C8-A3A5-C6047499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9D410-776B-4B63-A87A-1801217F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FF4-C0AF-4B32-9C13-517F7F2E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B208D-C924-4FF4-8214-32A1B58C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FD8E1-BCAD-466B-A023-DDCDB903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DDD99-D0F6-447C-9FEF-C7DEE7D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6A8CB-940D-45C8-9B8C-DF94C201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5FC4F-B7D0-40A2-8622-5B4BFFE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CFB52-7121-4AF0-B477-C70B826F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2F8F3-5221-4CC8-8A85-3983D822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31F42-1861-4EBE-AC34-F7A93679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DE086-1F4B-44B5-AD07-B1605462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A2E07-BA35-4B97-BA78-288A7DD4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A95B-EA56-422C-B83A-F046B62A79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3496-E1E7-43F0-B28E-80060E4598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29B9-D610-4679-A7E9-4BBC0EBFC1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7A27-7C32-4830-8CE8-47E069E84C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46F1-B4E0-4657-B9CA-CF225898BD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9EE4-067C-4AA1-9207-40AC0B4CFB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0B4-5010-482E-B9BF-8E9D0F9992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42E-92C9-4B49-A570-D6F9FD33DB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51C8-EC62-44A7-B838-6611D3EC05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42F7-A0D7-4320-AB9C-942AA4AD39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C1F-AC96-4E2C-A9C8-3DEF93C972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E113-5B1A-4CEE-8A90-2F64FB4327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529F-3EA0-4864-8097-E61361A4C0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E943-3CBE-43BD-8A21-8412719266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5B84-B39E-4660-8681-6DCF36C500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C79A-8335-4212-A039-B1C1BD598F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3B62-CCF8-4BA2-94BD-BD98979CD4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15A3-A297-4CB2-830C-D43D602474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77C1-9855-4EE1-9448-844D452110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14E0-D2F0-49F9-A675-E3B4C10FB4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5604-37B3-4E7E-A7A7-04500B49F4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CF95-75CC-4C43-8613-3685AAB32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53CF-F415-4FDC-B8A5-A1825B3EFA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8042-A96E-49D9-B304-B35F8A0E15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EBDB-0232-4192-8A07-10FF16BD6B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1158-AA6F-4576-A325-187AF54B57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E910-BD59-4FF1-BB78-44669CE87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F01A-3A8E-416F-A21E-0A8D80B210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430B-FCFF-4E2E-884A-11A8E8E7B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087D-37CC-4806-B1C2-B8B1C4DC7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5D11-477F-4599-9780-07DFCDF6BF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2773-6CFC-4203-9DD4-1724CAE088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6A04-44A4-4BC5-9FB3-8F9FF0D650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DFE0-36EB-4005-8874-5677D5BDE9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8BEA-E369-4E3B-81EF-5B330293F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67C3-9678-40A1-B588-AEFC2973F6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D4ED-A2FF-4AE6-8B2F-4AAE1D24B1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D383-CB65-4408-BEFE-3AA92AF4FB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C8C2-7E9D-48A4-AD3E-FBEAE65F5C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2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719440" y="2349360"/>
            <a:ext cx="3705120" cy="82872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542880" y="3562200"/>
            <a:ext cx="80582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3313" descr=""/>
          <p:cNvPicPr/>
          <p:nvPr/>
        </p:nvPicPr>
        <p:blipFill>
          <a:blip r:embed="rId1"/>
          <a:stretch/>
        </p:blipFill>
        <p:spPr>
          <a:xfrm>
            <a:off x="34920" y="835200"/>
            <a:ext cx="89820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图片 14337" descr=""/>
          <p:cNvPicPr/>
          <p:nvPr/>
        </p:nvPicPr>
        <p:blipFill>
          <a:blip r:embed="rId1"/>
          <a:stretch/>
        </p:blipFill>
        <p:spPr>
          <a:xfrm>
            <a:off x="696960" y="115920"/>
            <a:ext cx="8267760" cy="4000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14339" descr=""/>
          <p:cNvPicPr/>
          <p:nvPr/>
        </p:nvPicPr>
        <p:blipFill>
          <a:blip r:embed="rId3"/>
          <a:stretch/>
        </p:blipFill>
        <p:spPr>
          <a:xfrm>
            <a:off x="755640" y="4246560"/>
            <a:ext cx="5295960" cy="24955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4"/>
          <a:stretch/>
        </p:blipFill>
        <p:spPr>
          <a:xfrm>
            <a:off x="4427640" y="6237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5"/>
          <a:stretch/>
        </p:blipFill>
        <p:spPr>
          <a:xfrm>
            <a:off x="7164360" y="35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6"/>
          <a:stretch/>
        </p:blipFill>
        <p:spPr>
          <a:xfrm>
            <a:off x="1763640" y="6237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7"/>
          <a:stretch/>
        </p:blipFill>
        <p:spPr>
          <a:xfrm>
            <a:off x="1692360" y="3573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209520" y="895320"/>
            <a:ext cx="8724960" cy="50673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258920" y="32558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258920" y="47242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图片 21505" descr=""/>
          <p:cNvPicPr/>
          <p:nvPr/>
        </p:nvPicPr>
        <p:blipFill>
          <a:blip r:embed="rId1"/>
          <a:stretch/>
        </p:blipFill>
        <p:spPr>
          <a:xfrm>
            <a:off x="695160" y="2009880"/>
            <a:ext cx="7753680" cy="28382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6" name="组合 20483"/>
          <p:cNvGrpSpPr/>
          <p:nvPr/>
        </p:nvGrpSpPr>
        <p:grpSpPr>
          <a:xfrm>
            <a:off x="539640" y="590400"/>
            <a:ext cx="5992920" cy="6121440"/>
            <a:chOff x="539640" y="590400"/>
            <a:chExt cx="5992920" cy="6121440"/>
          </a:xfrm>
        </p:grpSpPr>
        <p:pic>
          <p:nvPicPr>
            <p:cNvPr id="1037" name="图片 20481" descr=""/>
            <p:cNvPicPr/>
            <p:nvPr/>
          </p:nvPicPr>
          <p:blipFill>
            <a:blip r:embed="rId1"/>
            <a:stretch/>
          </p:blipFill>
          <p:spPr>
            <a:xfrm>
              <a:off x="826920" y="1196640"/>
              <a:ext cx="5705640" cy="55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图片 20482" descr=""/>
            <p:cNvPicPr/>
            <p:nvPr/>
          </p:nvPicPr>
          <p:blipFill>
            <a:blip r:embed="rId2"/>
            <a:stretch/>
          </p:blipFill>
          <p:spPr>
            <a:xfrm>
              <a:off x="539640" y="590400"/>
              <a:ext cx="248616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9" name="直接连接符 20484"/>
          <p:cNvSpPr/>
          <p:nvPr/>
        </p:nvSpPr>
        <p:spPr>
          <a:xfrm>
            <a:off x="3564000" y="1484280"/>
            <a:ext cx="1008000" cy="1368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20485"/>
          <p:cNvSpPr/>
          <p:nvPr/>
        </p:nvSpPr>
        <p:spPr>
          <a:xfrm flipV="1">
            <a:off x="2382840" y="1628280"/>
            <a:ext cx="2260440" cy="1295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20486"/>
          <p:cNvSpPr/>
          <p:nvPr/>
        </p:nvSpPr>
        <p:spPr>
          <a:xfrm>
            <a:off x="2484360" y="4292640"/>
            <a:ext cx="2374920" cy="288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直接连接符 20487"/>
          <p:cNvSpPr/>
          <p:nvPr/>
        </p:nvSpPr>
        <p:spPr>
          <a:xfrm>
            <a:off x="3736800" y="5661000"/>
            <a:ext cx="863640" cy="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8193" descr=""/>
          <p:cNvPicPr/>
          <p:nvPr/>
        </p:nvPicPr>
        <p:blipFill>
          <a:blip r:embed="rId1"/>
          <a:stretch/>
        </p:blipFill>
        <p:spPr>
          <a:xfrm>
            <a:off x="109440" y="1643040"/>
            <a:ext cx="8925120" cy="35719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9" name="组合 9219"/>
          <p:cNvGrpSpPr/>
          <p:nvPr/>
        </p:nvGrpSpPr>
        <p:grpSpPr>
          <a:xfrm>
            <a:off x="476280" y="836640"/>
            <a:ext cx="8191440" cy="5602320"/>
            <a:chOff x="476280" y="836640"/>
            <a:chExt cx="8191440" cy="5602320"/>
          </a:xfrm>
        </p:grpSpPr>
        <p:pic>
          <p:nvPicPr>
            <p:cNvPr id="1050" name="图片 9217" descr=""/>
            <p:cNvPicPr/>
            <p:nvPr/>
          </p:nvPicPr>
          <p:blipFill>
            <a:blip r:embed="rId1"/>
            <a:stretch/>
          </p:blipFill>
          <p:spPr>
            <a:xfrm>
              <a:off x="476280" y="836640"/>
              <a:ext cx="8191440" cy="41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图片 9218" descr=""/>
            <p:cNvPicPr/>
            <p:nvPr/>
          </p:nvPicPr>
          <p:blipFill>
            <a:blip r:embed="rId2"/>
            <a:stretch/>
          </p:blipFill>
          <p:spPr>
            <a:xfrm>
              <a:off x="2114640" y="5229360"/>
              <a:ext cx="4905360" cy="120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826920" y="836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826920" y="3745080"/>
            <a:ext cx="50508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0241" descr=""/>
          <p:cNvPicPr/>
          <p:nvPr/>
        </p:nvPicPr>
        <p:blipFill>
          <a:blip r:embed="rId1"/>
          <a:stretch/>
        </p:blipFill>
        <p:spPr>
          <a:xfrm>
            <a:off x="561960" y="1343160"/>
            <a:ext cx="8020080" cy="41716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942840" y="3573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2289" descr=""/>
          <p:cNvPicPr/>
          <p:nvPr/>
        </p:nvPicPr>
        <p:blipFill>
          <a:blip r:embed="rId1"/>
          <a:stretch/>
        </p:blipFill>
        <p:spPr>
          <a:xfrm>
            <a:off x="176040" y="1728720"/>
            <a:ext cx="87919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1265" descr=""/>
          <p:cNvPicPr/>
          <p:nvPr/>
        </p:nvPicPr>
        <p:blipFill>
          <a:blip r:embed="rId1"/>
          <a:stretch/>
        </p:blipFill>
        <p:spPr>
          <a:xfrm>
            <a:off x="423720" y="2023920"/>
            <a:ext cx="8296560" cy="28101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576108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468360" y="2781360"/>
            <a:ext cx="201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1301760" y="3500280"/>
            <a:ext cx="33559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8:1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